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14.pct" ContentType="image/x-pict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3.pct" ContentType="image/x-pict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598-9F21-42CC-8585-2F116878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79EB-80FE-4189-8016-6BF06719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9A96-C494-440C-924A-754AD10E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A899-F0F4-49E0-9679-26D1B8C7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07E-BFE6-4A6A-BFB4-AC195DEA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C21-1E2B-4F8C-865F-C17EA30B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A25C-A156-4F62-91D1-00DA0909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A9B-F506-4071-A765-8F7D021A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687C-802A-48D4-AA41-8EE3B055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50F-18EE-4D4B-BBA8-AE40FC62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4C5-01B5-4092-9CE3-968B3232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264E-C168-453D-9A10-02C70261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66"/>
                </a:solidFill>
                <a:latin typeface="Times New Roman"/>
              </a:rPr>
              <a:t>2008 January  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66"/>
                </a:solidFill>
                <a:latin typeface="Times New Roman"/>
              </a:rPr>
              <a:t>EXPReS Board Meeting, Utrecht, the Netherlands: S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3293BAF1-26EF-42B9-A068-55AD6CFD1AD7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ct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A1: second year overview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rpad Szom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ata rate improve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809880" y="2971800"/>
          <a:ext cx="5194440" cy="319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971800"/>
                    <a:ext cx="5194440" cy="31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1143000"/>
          <a:ext cx="5378400" cy="3308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143000"/>
                    <a:ext cx="537840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674-6E81-420A-8D43-BEA9E9175AA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...and various operational improve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67816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necting stations on-the-f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WSRT synthesis data for e-VLBI calibration (absolute flux calibration, polarization calibration, source select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-craft tracking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8D8D-B366-4748-8BC3-DEDF199335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Mark5 upgrade: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752480"/>
            <a:ext cx="7162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 lvl="1" marL="537120" indent="-18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8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8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VLBI capability in Mark5B (nonexist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mino most important for now, will allow stations to move 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expected within 1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8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5B playback at EVN corre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fri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ome issue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8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18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7D7E-59BB-4EAF-AC00-B711731B07B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Ongoing/upcoming software develop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990720"/>
            <a:ext cx="71629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the-fly fringe fi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download and extraction of stat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ed correlator diagno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igation of a 1024M sub-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ive obser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56A6-323D-44E8-B9FD-E2B96E86E72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And more global connection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990720"/>
            <a:ext cx="71629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cibo at 512 Mbps (for limited perio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128 Mbps continu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GO: opportunity to increase bandwidth to ~500 Mbps (for demo purpo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 currently connected, tests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b: getting close to firs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ese telescopes back in business soon (rumors of fast connection to 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 during TERENA 2008, in Bruges,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-note address on e-VL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, TIGO, Mc, On, Wb, Ef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F9BF-3D24-40E8-95FE-73A7829840D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010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End of 2008: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762120"/>
            <a:ext cx="71629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lexibl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vide global base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ccess to big dis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uaranteed high data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al” e-VLBI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urn-over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FB92-78EC-4964-AB53-74A848BADC3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26720" y="2863800"/>
            <a:ext cx="716292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ccomplishments in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oft- and hardware develop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ims fo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527-E92A-4C58-972B-C392B63484E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-VLBI science/test run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 e-VLBI science projects accepted since 200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failed (in early 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 active binary systems (Algol-type, X-ray or gamma-ray binarie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of these were ToO projects, 3 part of multi-wavelength campa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adaptive observation of 16 X-ray binaries (no detections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determination of compactness of calibrator or 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spectral line 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supernova T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t proposal still waiting for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pid access to EVN provides clear benefit to users (important for  calibrator/multi-wavelength projec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llow-up observations of bursting transients were only a moderate success in 2006; two weeks delay between proposal submission and observations is too 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VBLI observing policy was changed in early 2007, to allow quick response to triggered projects (in 24 hou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ncerting lack of proposals (and trigg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4E81-C583-4E5D-AB7E-F5060DE66D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-VLBI resul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4114800" cy="385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3381120" cy="3886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200400" y="2743200"/>
            <a:ext cx="4133880" cy="3305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429000" y="3200400"/>
            <a:ext cx="2552760" cy="3049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019920" y="3200400"/>
            <a:ext cx="2558880" cy="30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960-0296-47E5-AF58-D2103DDB9B2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perational improve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all improvement in first ye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ust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e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f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tion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ing data loss by careful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of production data rate from 128 Mbps to 256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station fringes at 512 mb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sion of M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vi and Medicina telesc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BD6-8E04-4F78-9131-4A4E29E4E9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perational improve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focus during second ye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of network capacity (lightpath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high data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perational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upg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distance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ion of global e-VLBI (China, Austral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E494-4EF3-4F5C-908C-86CEB7A26F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0800" y="404640"/>
            <a:ext cx="76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3399"/>
                </a:solidFill>
                <a:latin typeface="Times New Roman"/>
              </a:rPr>
              <a:t>Network status e-EV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58920" y="1201680"/>
            <a:ext cx="6905520" cy="516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7EBE-4E51-4598-9533-5F5DED7C23D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Towards global baselines...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ted effort to make Xi’An and Oz-Europe demos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ssible without local Mark5 control softwar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alternative protocols, UDP and Circuit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 up of trans-Siberian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sh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91320" y="838080"/>
            <a:ext cx="2585880" cy="3562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429000" y="3886200"/>
            <a:ext cx="553392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E6C-EF5E-4CAC-9B81-B738B6BFE85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...and higher data rat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-grown version of Mark5 control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 increased stability,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 with packet re-ordering,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links to capacity by dropping packets at sending side, padding data stream with dummy packets at receiving side (courtesy of Casey and Hughes-J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ve packet dropping: only drop non-heade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 synchronization at corre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demanding for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733920" y="3809880"/>
            <a:ext cx="5208480" cy="241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6D3A-3AE1-4CF7-9FBF-541EEB8374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Arpad Szomoru</dc:creator>
  <dc:description/>
  <dc:language>en-US</dc:language>
  <cp:lastModifiedBy>Arpad Szomoru</cp:lastModifiedBy>
  <dcterms:modified xsi:type="dcterms:W3CDTF">2008-01-29T16:37:52Z</dcterms:modified>
  <cp:revision>47</cp:revision>
  <dc:subject/>
  <dc:title>Slide 1</dc:title>
</cp:coreProperties>
</file>